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09E34-2DEF-4BF6-95F0-91621DBC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5AAFD-D02E-45C5-8784-04FE0670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9DAD4-4B89-422A-898A-74E35B70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7CECE-DA6F-4F0B-AB4E-06C818AD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8A3A-5B54-42E5-8E87-F78D53A1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6113-93C1-4195-B277-9E3C2D63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708A-4EE2-4930-956A-A0953BDF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10AD-5418-4012-A3E2-9550479C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E576-59AC-40BA-8F5A-560CD965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2F8F-471C-4328-BCB7-8F2F4563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F6E3-7F6C-4A0D-8751-37E77C81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36DC-E497-42D0-98B2-EA57533D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71F6-64C5-476C-9C8D-C832B999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5478-6562-40A2-A736-200FAA33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2D35-B661-4E66-A907-F49484B9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2D56-E141-47B1-8302-ECE71983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B175-E9E0-4501-96BB-8196BE35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65CBD-0858-421D-A1EE-8375A5C4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5820A-722A-4266-B79F-80553B57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7F103-1E36-4529-A7F1-74077357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6969B-FA54-4239-AF23-DBEEF50C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FFA76-77C4-4083-A829-ADFBE758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DE021-B0F9-4FBB-A462-9DCB4161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799D2-5E9A-4C92-A534-99749C3B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C1E5-297D-4E67-8CEB-2402F396B7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0850-4C20-4E3A-A8DC-2DA9C195BB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orth40.ca/New%20Folder/Worm%20Album/images/Pinworm_jpg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130120"/>
            <a:ext cx="5791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KINGDOM</a:t>
            </a:r>
            <a:r>
              <a:rPr b="0" lang="en-US" sz="9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NIMALIA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animal diversity collage"/>
          <p:cNvPicPr/>
          <p:nvPr/>
        </p:nvPicPr>
        <p:blipFill>
          <a:blip r:embed="rId1"/>
          <a:stretch/>
        </p:blipFill>
        <p:spPr>
          <a:xfrm>
            <a:off x="6292800" y="0"/>
            <a:ext cx="2851200" cy="5181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nidocytes: cells that contain stinging poisonous barbs with which they paralyze pr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body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polyp: sessile, tentacles up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ral, hy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medusa: free swimming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entacles down – jelly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4724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estive body cavity surrounded by two layers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xual or asexual reproduction – hydra reproduces by 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al reefs build up and are important ocean habi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348000" cy="424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V.  Phylum Platyhelmint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: flatworms, tapeworms, flu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2971800" cy="2233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715000" y="2590920"/>
            <a:ext cx="2981160" cy="2274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276720" y="4419720"/>
            <a:ext cx="3124080" cy="2097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parasitic forms - cause many diseases of people and live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lateral symmetry and cephalization (concentration of sensory organs and nervous tissue in the h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digestive opening (pharynx) to take in food and release waste – most don’t need complex digestive systems because food has already been digested by their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are hermaphroditic, some can regenerate lost body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. Phylum Nemat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: roundworms (pinworms, hookwo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352680"/>
            <a:ext cx="3990960" cy="2705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181480" y="3124080"/>
            <a:ext cx="3000600" cy="300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are microsc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digestive openings: mouth and anus – food moves only on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y sexual reproduction; usually separate sexes; no 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are free-living, many are parasitic – you can be infected by consuming contaminated food/water or by being bitten by ins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I. Phylum Annel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: segmented worms, earthworms, lee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3164040" cy="3581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4538880" cy="2398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dy divided into many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digestive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phary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r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giz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d circulatory system: blood stays within vessel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main vein is dorsal (upper/bac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i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5 aortic arches: function as simple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thworm is hermaphroditic; others have separate se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thworms are important in the soil ecosystem– provide passageways for plant roots an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II.  Phylum Mollus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: snails, clams, octopus, s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3600360" cy="3009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00600" y="3276720"/>
            <a:ext cx="3886200" cy="2904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General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cellular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s (Heterotrop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orga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es 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divis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ebrates &amp; Verteb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lusks and annelids have a true coelom (body ca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muscular foot: used for motion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ttachment – the foot may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odified into tenta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mantle: soft, outer layer of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visceral mass: contains most of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ternal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gills or lungs: located in the mant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groups of mollu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gastropods (“stomach-foote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valves: one shell, brea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lungs; example: sn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valves: two shells, brea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gills; example: c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cephalopods (“head-foote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ot is modified into tentacle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the with gills;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: octopus, s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xual reproduction: most have separate sexes, some are hermaphrod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have an open circulatory system (blood is contained within vessels that empty into sinus cavities).  Cephalopods have a closed system (blood remains within vessel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mollusks are marine, but some live in fresh water or on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X. Phylum Arthrop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rgest phylum – found in almost all places on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xoskel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 Outside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 Very good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Does not grow, so it must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shed periodically (mol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paired, jointed appendages (bod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extens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open circulato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ventral (lower/belly side) nerve 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fied based 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ber 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 of bod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gments 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257800" y="3962520"/>
            <a:ext cx="3219480" cy="2219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ipedes and Millipe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most primitive arthrop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obvious 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entipedes (Class Chilopo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one pair of legs pe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se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poisonous fang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for killing pr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long anten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1258" b="3429"/>
          <a:stretch/>
        </p:blipFill>
        <p:spPr>
          <a:xfrm>
            <a:off x="6019920" y="3352680"/>
            <a:ext cx="2819160" cy="304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Millipedes (Class Diplopo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two pairs of legs per se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one pair of short anten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usually harmless vegetar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577040" cy="252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ustaceans (Class Crustac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examples: lobster, crayfish, shri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2914920" cy="2428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752480" y="3886200"/>
            <a:ext cx="2438640" cy="2505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are ma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body reg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cephalothor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abdomen (divided into 7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seg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short pair of antennae (1 long,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 p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mmerets: appendages o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domen used for swi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the by gills attached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mmer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pair of large c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4 pairs of walking l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4791240" cy="347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24280" y="2733840"/>
            <a:ext cx="4419720" cy="4124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 have 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5120" y="133776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in proportions of an object or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egular body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can be divided along any plane, through the central axis, into roughly equal h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ateral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can be divided down its length into similar right and left halves that form mirror images of one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achnids (Class Arachni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examples: spiders, ticks, mite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scor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2895480" cy="2395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809880" y="4572000"/>
            <a:ext cx="1704960" cy="2038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rcRect l="12905" t="0" r="14421" b="0"/>
          <a:stretch/>
        </p:blipFill>
        <p:spPr>
          <a:xfrm>
            <a:off x="6477120" y="1981080"/>
            <a:ext cx="2450880" cy="37767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spider.jpg (339937 bytes)"/>
          <p:cNvPicPr/>
          <p:nvPr/>
        </p:nvPicPr>
        <p:blipFill>
          <a:blip r:embed="rId4"/>
          <a:stretch/>
        </p:blipFill>
        <p:spPr>
          <a:xfrm>
            <a:off x="228600" y="2590920"/>
            <a:ext cx="3486240" cy="277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body reg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cephalothor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abdomen: no appendages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abd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anten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pairs of walking l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parts modified as fang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helicerae) to stab prey and suc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 body fl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ok lungs (gills modified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thing on l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ects (Class Insec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over 75% of all animal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first animals to develop 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81080" y="3809880"/>
            <a:ext cx="5162760" cy="2581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 three body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thorax (with 3 pairs of le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abd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 usually 1 or 2 pairs of w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1 pair of anten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 compound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  respiration through a system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tubes called trachea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metamorphosis: a series of chang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ing which young insects develop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o ad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some insect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do not carry 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metamorphosi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(silverf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0" t="0" r="3450" b="3569"/>
          <a:stretch/>
        </p:blipFill>
        <p:spPr>
          <a:xfrm>
            <a:off x="5486400" y="1981080"/>
            <a:ext cx="25290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457200"/>
            <a:ext cx="5791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plete (gradual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morphos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grasshopp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nymph (look li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adults, but smaller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with no wings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reproductiv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org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ad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2857680" cy="2419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334120" y="4419720"/>
            <a:ext cx="3105000" cy="2181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metamorphos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butterflies, be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larva (caterpill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pu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ad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It may look still, but the caterpillar is wriggling out of this last skin like a too tight shirt!"/>
          <p:cNvPicPr/>
          <p:nvPr/>
        </p:nvPicPr>
        <p:blipFill>
          <a:blip r:embed="rId1"/>
          <a:stretch/>
        </p:blipFill>
        <p:spPr>
          <a:xfrm>
            <a:off x="457200" y="4114800"/>
            <a:ext cx="2819520" cy="2454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It will remain in this stage for about 10-12 days as the caterpillar's entire body is reorganized into a butterfly; metamorphosis!"/>
          <p:cNvPicPr/>
          <p:nvPr/>
        </p:nvPicPr>
        <p:blipFill>
          <a:blip r:embed="rId2"/>
          <a:stretch/>
        </p:blipFill>
        <p:spPr>
          <a:xfrm>
            <a:off x="3581280" y="4114800"/>
            <a:ext cx="2590920" cy="2233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The wings are damp for a few hours before it is able to fly.  During this time, the monarch is very vulnerable to predators."/>
          <p:cNvPicPr/>
          <p:nvPr/>
        </p:nvPicPr>
        <p:blipFill>
          <a:blip r:embed="rId3"/>
          <a:stretch/>
        </p:blipFill>
        <p:spPr>
          <a:xfrm>
            <a:off x="6400800" y="2743200"/>
            <a:ext cx="2430360" cy="373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. Phylum Echinoder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 means “spiny sk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in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al symmetry – body parts usually in multiples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larvae have bilateral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have  a fairly close relationship to verteb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er vascula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system of internal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arries out functions of circulation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spiration, and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be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act like living suction c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help in movement and fe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: sea urchins, sand dollars, star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14446" t="0" r="12666" b="0"/>
          <a:stretch/>
        </p:blipFill>
        <p:spPr>
          <a:xfrm>
            <a:off x="5638680" y="144792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819520" y="3962520"/>
            <a:ext cx="3504960" cy="2576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rcRect l="10606" t="0" r="4534" b="0"/>
          <a:stretch/>
        </p:blipFill>
        <p:spPr>
          <a:xfrm>
            <a:off x="457200" y="1905120"/>
            <a:ext cx="2895480" cy="2455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y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cavity surrounded by a mesod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el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ell layers with a digestive tract but no bod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coel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-filled body cavity partly lined with 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I. Comparing Inverteb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alized cells, tissues, and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Sponges and Cnidarians: litt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internal spec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Flatworms: simple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More complex invertebrates: org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dy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sponges: no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nidarians and echinoderms: radi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all other phyla: bilateral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phalization: concentration of sense organs and nerve cells in the front of the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sponges: no ner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nidarians: nerve 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worms and arthropods: group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rves called gang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mollusks: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elom formation: body cavity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sponges and cnidarians: two cel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layers with a jellylike materi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other invertebrates have 3 cel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types of coelo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flatworms: no body cavi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(acoeloma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roundworms: body cavity partial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lined with mesoder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(pseudocoeloma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other invertebrates: body cavi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completely lined with mesoder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(coeloma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763120" cy="588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eding and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intracellular digestion: food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broken down inside cells (low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anim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extracellular digestion: food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digested and then enters the cells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enables digestion of larger piec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of food (higher invertebra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diffusion through skin: man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gills: aquatic invertebrates (man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ollusks and arthrop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mantle cavity: s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book lungs: sp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tracheal tubes: many ins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open circulatory system: bloo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es not stay within vessel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mpties into sinuses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xamples: arthropods, mo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ollu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losed circulatory system: bloo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mains within vessels; example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nelids, some mollu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vement an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hydrostatic skeleton: fluid-fi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body cavity supports the muscles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examples: annelids, jelly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exoskeleton: skeleton is outsi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the body; examples: arthrop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endoskeleton: located insid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body; examples: verteb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without a back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if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idar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all animals reproduce sexually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ome may also reproduce a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external fertilization: (usually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ater) eggs and sperm are releas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to the surrounding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internal fertilization: (usual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and) eggs are fertilized insid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ody of the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vertebrat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lum Porif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spo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d means “pore bear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al sponges: nonliving material that remains after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sponges.jpg (13004 bytes)"/>
          <p:cNvPicPr/>
          <p:nvPr/>
        </p:nvPicPr>
        <p:blipFill>
          <a:blip r:embed="rId1"/>
          <a:stretch/>
        </p:blipFill>
        <p:spPr>
          <a:xfrm>
            <a:off x="5029200" y="1523880"/>
            <a:ext cx="3533760" cy="272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3600" y="4343400"/>
            <a:ext cx="184140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ssile: live attached to a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have nerve cells or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ter feeders: pump water in and out and feed on the organic material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are hermaphrodites: able to produce male and female gametes – an advantage for sessile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reassemble when frag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I.  Phylum Cnid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: coral, jellyfish, sea anem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 pink sea anemone"/>
          <p:cNvPicPr/>
          <p:nvPr/>
        </p:nvPicPr>
        <p:blipFill>
          <a:blip r:embed="rId2"/>
          <a:stretch/>
        </p:blipFill>
        <p:spPr>
          <a:xfrm>
            <a:off x="304920" y="2743200"/>
            <a:ext cx="4209840" cy="315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5:34:07Z</dcterms:created>
  <dc:creator>amiddaugh</dc:creator>
  <dc:description/>
  <dc:language>en-US</dc:language>
  <cp:lastModifiedBy>Tricia</cp:lastModifiedBy>
  <dcterms:modified xsi:type="dcterms:W3CDTF">2007-07-24T13:49:09Z</dcterms:modified>
  <cp:revision>97</cp:revision>
  <dc:subject/>
  <dc:title>Invertebrates</dc:title>
</cp:coreProperties>
</file>